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7F48-0C11-4CFE-98B2-3520F81A1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50E1-EEB9-4DD3-8F0C-345B0899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FEEE-4334-4CB8-8D2C-8E4ED4C79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9AC7-CB91-45C2-8400-5C0125726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3D82-38FE-48A2-81B1-7A561045C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2D3E-E8C4-4FEC-9C25-78E68FE9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1CC2-5051-49CC-9E2D-DF72B2A2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8027-156B-420E-B1CD-84F6AA62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182C-A4FC-4356-B0ED-846EA983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AB4B3-2E05-4209-9C1B-59620942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1248B-25DD-4A9A-9B00-B29D952A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1254-A33B-4118-BDC0-9E535846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7AB91-38D0-4327-81A4-3B49A0A8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967A-0FC9-4277-B4E6-D3212D9A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645C-BF1D-4B01-83B6-7F324A14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4822-A13F-499C-97B2-40DA2254C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7E4FF-186D-4285-8FD7-DD1A6479C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16C4-69B7-48B7-8862-C2CAC9E5B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CCC2-7B58-4235-8A2A-E0477F54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1996-AFDA-4561-9E3F-105D8FEB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A16D-AF30-4143-B95E-05DEDC33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78C4-F059-479D-A2A8-B77FCC08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5ABF-18A2-467B-89CF-E05E8470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9B2D-2B41-4EDA-9791-0B4D4555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F134-466B-4048-8FE6-70D8CF3AF1B4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4369-51EE-407F-BD63-0C33675DE72D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900" spc="-1" strike="noStrike">
                <a:solidFill>
                  <a:srgbClr val="006666"/>
                </a:solidFill>
                <a:latin typeface="Verdana"/>
              </a:rPr>
              <a:t>« Предложения с вводными конструкциями»</a:t>
            </a:r>
            <a:endParaRPr b="0" lang="en-US" sz="59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981080" y="4225680"/>
            <a:ext cx="6400800" cy="17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Выполнил ученик 8  класса:                                             Машанов Илья Владимирович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Группы вводных слов по значению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99"/>
                </a:solidFill>
                <a:uFillTx/>
                <a:latin typeface="Verdana"/>
              </a:rPr>
              <a:t>ВВОДНЫЕ СЛОВА, СЛУЖАЩИЕ ДЛЯ ПРИВЛЕЧЕНИЯ ВНИМАНИЯ СОБЕСЕДНИКА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(знаешь (знаете) , понимаешь (понимаете) , послушай (послушайте)).</a:t>
            </a:r>
            <a:r>
              <a:rPr b="0" i="1" lang="ru-RU" sz="4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99"/>
                </a:solidFill>
                <a:latin typeface="Verdana"/>
              </a:rPr>
              <a:t>Понимаете, вы таким образом ничего не добьётесь.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Информационные ресурсы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http://www.traktat.com/language/book/synt/prost_01/vv_ko.php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http://www.prosv.ru/ebooks/nikolina_russkii_8/14.htm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http://www.hi-edu.ru/e-books/xbook089/01/index.html?part-035.htm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Вопросы, на которые нужно ответить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Что такое вводная конструкция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 обособляются вводные конструкции на письме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ие бывают  группы вводных слов по значению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1" name="Picture 4" descr="а"/>
          <p:cNvPicPr/>
          <p:nvPr/>
        </p:nvPicPr>
        <p:blipFill>
          <a:blip r:embed="rId1"/>
          <a:stretch/>
        </p:blipFill>
        <p:spPr>
          <a:xfrm>
            <a:off x="5746680" y="3886200"/>
            <a:ext cx="19414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Что такое вводная конструкция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Вводные конструкции</a:t>
            </a: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— это слова, словосочетания или предложения, с помощью которых говорящий выражает своё отношение к тому, что он сообщает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Из всех его недостатков, бесспорно </a:t>
            </a: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( вводное слово),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 первым и важнейшим было неуважение к отцу.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Picture 4" descr="р"/>
          <p:cNvPicPr/>
          <p:nvPr/>
        </p:nvPicPr>
        <p:blipFill>
          <a:blip r:embed="rId1"/>
          <a:stretch/>
        </p:blipFill>
        <p:spPr>
          <a:xfrm>
            <a:off x="6781680" y="5265720"/>
            <a:ext cx="205740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Как обособляются вводные конструкции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водные слова и предложения всегда интонационно выделены: они произносятся, как правило, с понижением тона и отделяются паузами от членов предложения, а на письме – запятым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         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Про вас я не слыхал, к несчастью, ничего (М. Лермонтов)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Группы вводных слов по значению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99"/>
                </a:solidFill>
                <a:uFillTx/>
                <a:latin typeface="Verdana"/>
              </a:rPr>
              <a:t>Вводные слова, выражающие степень уверенности говорящего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( без сомнения ,безусловно, бесспорно, вероятно ,возможно, кажется, конечно, может быть ,очевидно, по-видимому, разумеется )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Чайки над мачтами с криками вьются –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Может быть, плачут, а может, смеютс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Группы вводных слов по значению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99"/>
                </a:solidFill>
                <a:uFillTx/>
                <a:latin typeface="Verdana"/>
              </a:rPr>
              <a:t> </a:t>
            </a:r>
            <a:r>
              <a:rPr b="1" lang="ru-RU" sz="3200" spc="-1" strike="noStrike" u="sng">
                <a:solidFill>
                  <a:srgbClr val="006699"/>
                </a:solidFill>
                <a:uFillTx/>
                <a:latin typeface="Verdana"/>
              </a:rPr>
              <a:t>ВВОДНЫЕ СЛОВА, ВЫРАЖАЮЩИЕ ЧУВСТВА ГОВОРЯЩЕГО </a:t>
            </a: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(к радости, к сожалению, к счастью )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i="1" lang="ru-RU" sz="3600" spc="-1" strike="noStrike">
                <a:solidFill>
                  <a:srgbClr val="006699"/>
                </a:solidFill>
                <a:latin typeface="Verdana"/>
              </a:rPr>
              <a:t>К  счастью, контрольной не будет !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Группы вводных слов по значению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99"/>
                </a:solidFill>
                <a:uFillTx/>
                <a:latin typeface="Verdana"/>
              </a:rPr>
              <a:t>ВВОДНЫЕ СЛОВА,НАЗЫВАЮЩИЕ ИСТОЧНИК ВЫСКАЗЫВАНИЯ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(как говорят , по мнению , по словам , по-моему )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По моему, он неправильно поступи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Группы вводных слов по значению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99"/>
                </a:solidFill>
                <a:uFillTx/>
                <a:latin typeface="Verdana"/>
              </a:rPr>
              <a:t>ВВОДНЫЕ СЛОВА, СЛУЖАЩИЕ ДЛЯ ОБОЗНАЧЕНИЯ ПОРЯДКА ЯВЛЕНИЙ (МЫСЛЕЙ), ЛОГИЧЕСКОЙ СВЯЗИ МЕЖДУ НИМИ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(значит, итак, наконец, например,следовательно, таким образом, во-первых, во-вторых)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Значит, не всё потеряно и у нас есть шанс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Группы вводных слов по значению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99"/>
                </a:solidFill>
                <a:uFillTx/>
                <a:latin typeface="Verdana"/>
              </a:rPr>
              <a:t>ВВОДНЫЕ СЛОВА, СЛУЖАЩИЕ ДЛЯ ОЦЕНКИ СТИЛЯ ВЫСКАЗЫВАНИЯ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(другими словами , как говорят , мягко говоря , образно говоря ,прямо скажем)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        </a:t>
            </a: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Как говорят, насильно мил не будешь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ша</dc:creator>
  <dc:description/>
  <dc:language>en-US</dc:language>
  <cp:lastModifiedBy>Наташа</cp:lastModifiedBy>
  <dcterms:modified xsi:type="dcterms:W3CDTF">2010-05-15T10:48:1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